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8CA15-8666-4D73-BA03-941B92A7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682C-2DC1-40E4-B375-2136BBDC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49D06-94A0-4D62-9934-C4A681BC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433D7-0FD2-4182-9B68-11137024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8BD1-3021-4DD3-AA3C-9724C49E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15595-B33E-46A7-93AB-65348E05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3BEE7-2688-4714-AD6F-F27AB639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11F3C-F11A-476F-9877-1C962994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F18D5-04B0-49FD-BE8A-66E1A3D7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CD6DA-CCB7-4706-A75E-FB5174D1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8CD21-3D33-4083-B9D9-4A9E4356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F8EFE-0FE1-4C88-83B5-3C814320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E754-3981-42C3-AD7E-2FD5558973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КС РФ рассмотрит дело о взимании платы за загрязнение окружающей среды"/>
          <p:cNvPicPr/>
          <p:nvPr/>
        </p:nvPicPr>
        <p:blipFill>
          <a:blip r:embed="rId1"/>
          <a:stretch/>
        </p:blipFill>
        <p:spPr>
          <a:xfrm>
            <a:off x="0" y="0"/>
            <a:ext cx="9083520" cy="6870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6960" y="4114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e5e5ff"/>
                </a:solidFill>
                <a:latin typeface="Garamond"/>
              </a:rPr>
              <a:t>Загрязнение окружающей среды, виды, классификации</a:t>
            </a:r>
            <a:endParaRPr b="1" lang="en-US" sz="55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Классификация по системному подходу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5560" y="685800"/>
          <a:ext cx="8762760" cy="6046920"/>
        </p:xfrm>
        <a:graphic>
          <a:graphicData uri="http://schemas.openxmlformats.org/drawingml/2006/table">
            <a:tbl>
              <a:tblPr/>
              <a:tblGrid>
                <a:gridCol w="1803240"/>
                <a:gridCol w="3763800"/>
                <a:gridCol w="319572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гряз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19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иоценотическо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оздействия, вызывающие нарушение в составе и структуре популяций живых организм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репромысел, нерегулируемый отлов, отстрел животных, интродукция, акклиматиз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5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ациально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структив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ация – место обитания, деструкция – разрушение: воздействие, приводящее к нарушению и преобразованию ландшафтов и экосистем в процессе природо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ырубка лесов, эрозия почв, урбанизация, осушение болот, мелиоративные работы, зарегулирование водотоков и п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Классификация по системному подходу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280" y="990720"/>
          <a:ext cx="8763120" cy="5127480"/>
        </p:xfrm>
        <a:graphic>
          <a:graphicData uri="http://schemas.openxmlformats.org/drawingml/2006/table">
            <a:tbl>
              <a:tblPr/>
              <a:tblGrid>
                <a:gridCol w="2068560"/>
                <a:gridCol w="3498840"/>
                <a:gridCol w="3195720"/>
              </a:tblGrid>
              <a:tr h="79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грязн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мер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77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нгредиентное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овокупность веществ, количественно или качественно чуждых естественным биогеоценозам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ытовые стоки, ядохимикаты, удобрения, продукты сгорания, мусор и т.д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3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араметрическое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качественных параметров окружающей природной среды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умовое, тепловое, световое, радиационное, электромагнитное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Непосредственно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объектами загрязнения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являются основные компоненты экосистемы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тмосфер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д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ч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2" descr="Фотография Воздух, вода, земля из раздела природа 1549728 - фото.сайт - Photosight.ru"/>
          <p:cNvPicPr/>
          <p:nvPr/>
        </p:nvPicPr>
        <p:blipFill>
          <a:blip r:embed="rId1"/>
          <a:srcRect l="4233" t="5397" r="6163" b="3764"/>
          <a:stretch/>
        </p:blipFill>
        <p:spPr>
          <a:xfrm>
            <a:off x="2362320" y="2274840"/>
            <a:ext cx="67816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посредствованные объекты загрязнен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ставляющие биогеоценоза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стения; животные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ибы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икроорганиз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2" name="Picture 2" descr="&quot;Гриб:это животное или растение?"/>
          <p:cNvPicPr/>
          <p:nvPr/>
        </p:nvPicPr>
        <p:blipFill>
          <a:blip r:embed="rId1"/>
          <a:stretch/>
        </p:blipFill>
        <p:spPr>
          <a:xfrm>
            <a:off x="0" y="3632040"/>
            <a:ext cx="2743200" cy="3225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Животные - 824067 на Sibnet"/>
          <p:cNvPicPr/>
          <p:nvPr/>
        </p:nvPicPr>
        <p:blipFill>
          <a:blip r:embed="rId2"/>
          <a:srcRect l="0" t="-283" r="0" b="10387"/>
          <a:stretch/>
        </p:blipFill>
        <p:spPr>
          <a:xfrm>
            <a:off x="3276720" y="2900520"/>
            <a:ext cx="586872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новные антропогенные загрязнител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вещества, которые выбрасывающие промышленными предприятиями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нефть и нефтепродукты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пестициды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минеральные удобрения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шумы от производств, транспорта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ионизирующее излучение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вибрации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светло тепловые влияния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изические (энергетические) виды загрязнений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3760" y="16761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Физическим загрязнением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зывают загрязнения, возникающие с изменением физических параметров среды:  тепловых, световых, электромагнитных, акустических, радиационных и д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8" name="Picture 2" descr="Защита жилища и рабочего помещения от шума"/>
          <p:cNvPicPr/>
          <p:nvPr/>
        </p:nvPicPr>
        <p:blipFill>
          <a:blip r:embed="rId1"/>
          <a:stretch/>
        </p:blipFill>
        <p:spPr>
          <a:xfrm>
            <a:off x="4191120" y="3548160"/>
            <a:ext cx="4952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мером может служить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тепловое загрязнени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которое является результатом повышения температуры среды в связи с промышленными выбросами теплой воды, потоков нагретого воздуха, дымов, газ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пловое воздействие может быть вторичным, как результат изменения химического состава среды (парниковый эффект), который возникает в результате антропогенного загрязнения воздуха углекислым газом, метаном, фтор-хлоруглеродами, которые пропускают солнечные лучи, но задерживают тепловое излучение поверхности Земли, тем самым, вызывая повышение температуры атмосфер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16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витие промышленности приводит к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акустическому загрязнению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среды в виде повышения  естественного уровня  шума и отклонения от нормального состояния звуковых характеристик (силы звука, периодичности). Практически любые звуки, возникающие не из природных источников и к которым живые организмы не адаптированы в течение эволюции, рассматриваются как антропогенное шумовое загрязнен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Шум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360" y="1219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- это волновое колебание упругой среды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 физической точки зрения шум – это беспорядочное сочетание звуков различной частоты и интенсивности, отрицательно воздействующее на любые живые организмы, но в наибольшей степени на человека, вызывающее повышенную утомляемость, снижение умственной активности, производительности труда, вызывающее соматические и психические заболевания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Уровень шума можно характеризовать интенсивностью звука - и принято измерять в относительных единицах – децибелах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Физико-биологическая адаптация к шуму невозможна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мерные уровни шум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4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Болевые ощущ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3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раскаты гро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1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Оркестр поп-музы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0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Тяжелый грузови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7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Салон легкового автомобил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5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Разговорная реч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0 -2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- Шеп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2-3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Зимний лес в безветренную погод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2/3 жителей Татарстана проживает в очень загрязнённых городах :: KazanFirst - новости Татарстана, Казань, Набережные Челны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514"/>
                </a:solidFill>
                <a:latin typeface="Garamond"/>
              </a:rPr>
              <a:t>Загрязнение окружающей сред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411444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это привнесение в среду или возникновение в ней новых  (обычно не характерных для неё) химических, физических, биологических или информационных факторов, или превышение естественного уровня содержания данных факторов в среде, приводящих к негативным последствия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брац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ложные колебания в механических системах, которые передаются через грунт и воспринимаются при контакте с вибрирующим телом, при частоте 1 – 100 Гц они воспринимаются как сотрясения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ибрация может измеряться с помощью как абсолютных,  так и относительных величин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бсолютные параметры – вибросмещение, виброскорость, виброускорени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носительная величина – уровень виброскорости в децибела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Основные источники вибрации: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40" y="9144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хнологическое оборудование ударного действия (молоты, прессы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ощные энергетические установки (насосы, компрессоры, двигатели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льсовый транспорт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етрополитен неглубокого залега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9" name="Picture 4" descr="В верхах: Новости Екатеринбурга: Екатеринбург Он-Лайн"/>
          <p:cNvPicPr/>
          <p:nvPr/>
        </p:nvPicPr>
        <p:blipFill>
          <a:blip r:embed="rId1"/>
          <a:stretch/>
        </p:blipFill>
        <p:spPr>
          <a:xfrm>
            <a:off x="3733920" y="3792600"/>
            <a:ext cx="541008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ибрация распространяется по грунту и достигает фундаментов общественных и жилых зданий, которые могут разрушающе действовать на различные конструкции и сооружения. Однако они затухают в грунте примерно с темпом 1 дБ/мин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2" descr="Tatra trams Picture Gallery - Photo Gallery - Images"/>
          <p:cNvPicPr/>
          <p:nvPr/>
        </p:nvPicPr>
        <p:blipFill>
          <a:blip r:embed="rId1"/>
          <a:srcRect l="0" t="7000" r="0" b="21517"/>
          <a:stretch/>
        </p:blipFill>
        <p:spPr>
          <a:xfrm>
            <a:off x="0" y="2678040"/>
            <a:ext cx="9144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360" y="15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тественное магнитное поле Земли, напряженность которого увеличивается с широтой, и региональные аномалии этого поля в местах залежей железной руды являются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естественными магнитными полями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последние несколько десятилетий сформировался новый фактор окружающей среды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– электромагнитные поля  (ЭМП) радичастот антропогенного происхожден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Picture 2" descr="Магнитное поле Земли. - 25 Декабря 2013 - Blog - Dpogum"/>
          <p:cNvPicPr/>
          <p:nvPr/>
        </p:nvPicPr>
        <p:blipFill>
          <a:blip r:embed="rId1"/>
          <a:stretch/>
        </p:blipFill>
        <p:spPr>
          <a:xfrm>
            <a:off x="4876920" y="3257640"/>
            <a:ext cx="4267080" cy="360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wisaev: Поменяются ли Полюса Земли?"/>
          <p:cNvPicPr/>
          <p:nvPr/>
        </p:nvPicPr>
        <p:blipFill>
          <a:blip r:embed="rId2"/>
          <a:stretch/>
        </p:blipFill>
        <p:spPr>
          <a:xfrm>
            <a:off x="0" y="3249720"/>
            <a:ext cx="44956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Основные источники электромагнитных полей радиочастот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160" y="1371600"/>
            <a:ext cx="5085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диотехнические объекты (РТО)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телевизионные и радиолокационные станции (РЛС)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рмические цех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которые технологические установ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2" descr="Природные источники электромагнитных полей"/>
          <p:cNvPicPr/>
          <p:nvPr/>
        </p:nvPicPr>
        <p:blipFill>
          <a:blip r:embed="rId1"/>
          <a:stretch/>
        </p:blipFill>
        <p:spPr>
          <a:xfrm>
            <a:off x="5181480" y="1317600"/>
            <a:ext cx="3962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пряженность ЭМП возрастает особенно резко вблизи ЛЭП, радио- и телестанций, средств радиолокации и радиосвязи ( в том числе мобильной и спутниковой), различных энергетических и энергоемких установок, термических цехов и участков (зонах, примыкающих к промышленным предприятиям), городского транспорт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2" descr="Сбор электроэнергии из окружающей средыАгрегатор IT новостей Crowler-pcworld Агрегатор IT новостей Crowler-pcworld"/>
          <p:cNvPicPr/>
          <p:nvPr/>
        </p:nvPicPr>
        <p:blipFill>
          <a:blip r:embed="rId1"/>
          <a:stretch/>
        </p:blipFill>
        <p:spPr>
          <a:xfrm>
            <a:off x="3809880" y="3289320"/>
            <a:ext cx="53341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диационное загрязнени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277640"/>
            <a:ext cx="8686800" cy="48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никает в результате действия ионизирующей радиации (излучения), а радиоактивное – в результате превышения уровня естественного содержания радиоактивных веществ в окружающей среде. Радиационное и радиоактивное загрязнения вызывают превышение                                                                  радиационного фона                                                    Земли, к которому все                                                   живые организмы                                         адаптированы                                                                   в ходе эволюци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" descr="Радиация и здоровье человека - Фото 13013/9"/>
          <p:cNvPicPr/>
          <p:nvPr/>
        </p:nvPicPr>
        <p:blipFill>
          <a:blip r:embed="rId1"/>
          <a:stretch/>
        </p:blipFill>
        <p:spPr>
          <a:xfrm>
            <a:off x="4191120" y="3540240"/>
            <a:ext cx="495288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вышение нормативов может вызвать серьезные изменения в окружающей среде и организме человека. Наиболее опасным последствием радиационного загрязнения является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утагенный эффект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утации передаются в поколениях и могут вызвать стойкие изменения в биосфер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2" descr="Техника кармических влияний. Продолжение"/>
          <p:cNvPicPr/>
          <p:nvPr/>
        </p:nvPicPr>
        <p:blipFill>
          <a:blip r:embed="rId1"/>
          <a:srcRect l="0" t="0" r="0" b="11303"/>
          <a:stretch/>
        </p:blipFill>
        <p:spPr>
          <a:xfrm>
            <a:off x="4343400" y="363852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СОТВОРЕНИЕ ИЛИ ИСТОРИЧЕСКАЯ ЭВОЛЮЦИЯ. - Страница 79"/>
          <p:cNvPicPr/>
          <p:nvPr/>
        </p:nvPicPr>
        <p:blipFill>
          <a:blip r:embed="rId2"/>
          <a:srcRect l="5732" t="0" r="0" b="0"/>
          <a:stretch/>
        </p:blipFill>
        <p:spPr>
          <a:xfrm>
            <a:off x="-1440" y="3638520"/>
            <a:ext cx="40543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онизирующее излучени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то вид излучения, взаимодействие которого со средой  приводит к образованию ион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Два основных типа радиации Излучение Частиц -Альфа частицы Бета частицы Электромагнитное излучение Радиоволны Микроволны Ультраф"/>
          <p:cNvPicPr/>
          <p:nvPr/>
        </p:nvPicPr>
        <p:blipFill>
          <a:blip r:embed="rId1"/>
          <a:stretch/>
        </p:blipFill>
        <p:spPr>
          <a:xfrm>
            <a:off x="914400" y="2324160"/>
            <a:ext cx="754380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Основные виды ионизирующих излучений: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α- частицы – ядра гелия, несущие два элементарных положительных заряда, представляют главную опасность при попадании радионуклидов внутрь организм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2" descr="http://fr.novopress.info/wp-content/uploads/2012/05/Radio-activit%C3%A9.jpg"/>
          <p:cNvPicPr/>
          <p:nvPr/>
        </p:nvPicPr>
        <p:blipFill>
          <a:blip r:embed="rId1"/>
          <a:stretch/>
        </p:blipFill>
        <p:spPr>
          <a:xfrm>
            <a:off x="1219320" y="2422440"/>
            <a:ext cx="64767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Классификация по причине загрязнения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685800"/>
          <a:ext cx="9144000" cy="6172200"/>
        </p:xfrm>
        <a:graphic>
          <a:graphicData uri="http://schemas.openxmlformats.org/drawingml/2006/table">
            <a:tbl>
              <a:tblPr/>
              <a:tblGrid>
                <a:gridCol w="798480"/>
                <a:gridCol w="1768680"/>
                <a:gridCol w="2806560"/>
                <a:gridCol w="3770280"/>
              </a:tblGrid>
              <a:tr h="7318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гряз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арактеристик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мер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2922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стестве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озникает в результате природных процессов, катастрофических причи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ыльные бури, вулканический пепел, пожары от молний, продукты выветривания, морская и космическая пыль, разложение организм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92644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нтроп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е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омыш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ле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зникают в результате деятельности человека, в т. ч. их прямого или косвенного влия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нергетика, металлургия, химическая, нефтяная промышленность, цементная промышленность и д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ытов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опление, транспор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Основные виды ионизирующих излучений: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β- частицы – ядерные частицы, близкие по физической природе к электронам, возникают при радиоактивном распаде и сразу же излучаются, опасны в основном при попадании радионуклидов на кожные покровы и внутрь организм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2" descr="1.4 Радиоактивность и ядерная энергия Науколандия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Основные виды ионизирующих излучений: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γ  - кванты – самые коротковолновые электромагнитные излучения, которые образуются в ходе ядерных реакций и при распаде осколков деления, близки к рентгеновским лучам, но имеют более короткую длину волны, опасны при любой форме воздействия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2" descr="Alpha Beta Gamma Radiation Symbols"/>
          <p:cNvPicPr/>
          <p:nvPr/>
        </p:nvPicPr>
        <p:blipFill>
          <a:blip r:embed="rId1"/>
          <a:stretch/>
        </p:blipFill>
        <p:spPr>
          <a:xfrm>
            <a:off x="4572000" y="2525760"/>
            <a:ext cx="4572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Основные виды ионизирующих излучений: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- нейтроны – вылетают из ядер атомов при реакциях деления и синтеза, проникают в биоткань на большую глубину, с нейтронным потоком можно встретиться только при ядерном взрыве или работающем ядерном реакторе, он не возникает при радиоактивном распаде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2" descr="NRC: Radiation Basics"/>
          <p:cNvPicPr/>
          <p:nvPr/>
        </p:nvPicPr>
        <p:blipFill>
          <a:blip r:embed="rId1"/>
          <a:stretch/>
        </p:blipFill>
        <p:spPr>
          <a:xfrm>
            <a:off x="1219320" y="3200400"/>
            <a:ext cx="6730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диоактивно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амопроизвольное превращение неустойчивого нуклида в другой нуклид, сопровождающееся испусканием ионизирующих излуче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лавной характеристикой степени опасности является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доза излуч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2" descr="Физические основы. Радиоактивность деления"/>
          <p:cNvPicPr/>
          <p:nvPr/>
        </p:nvPicPr>
        <p:blipFill>
          <a:blip r:embed="rId1"/>
          <a:stretch/>
        </p:blipFill>
        <p:spPr>
          <a:xfrm>
            <a:off x="4114800" y="30862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Garamond"/>
              </a:rPr>
              <a:t>Экспозиционная доза –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количество γ – излучения. Экспозиционная доза характеризует потенциальную опасность γ -излучения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Garamond"/>
              </a:rPr>
              <a:t>Поглощенная доза –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количество энергии любого вида излучения, поглощенное в единице массы вещества. Это физическая доза излучения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Garamond"/>
              </a:rPr>
              <a:t>Эквивалентная доза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– количество энергии любого вида излучения, поглощенное в единице массы вещества с учетом качества излучения. Эта доза не может быть измерена, а должна быть рассчитан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новое радиоактивное излучени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кладывается из 3 групп факторо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Схема 1" descr=""/>
          <p:cNvPicPr/>
          <p:nvPr/>
        </p:nvPicPr>
        <p:blipFill>
          <a:blip r:embed="rId1"/>
          <a:stretch/>
        </p:blipFill>
        <p:spPr>
          <a:xfrm>
            <a:off x="-6480" y="1298520"/>
            <a:ext cx="916308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иологическое загрязнение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81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иологическое загрязнение ОС подразделяется на биотическое и (биогенное) и микробно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биотическому загрязнению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относят распространение в окружающей среде биогенных веществ – выделений сельскохозяйственных животных с ферм и индивидуальных хозяйств, выбросов предприятий, производящих определенные виды продовольствия (мясокомбинатов, молокозаводов, пивзаводов, предприятий микробиологического синтеза (БВК)), предприятий, производящих антибиотики, а также загрязнение трупами животны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иологическое загрязнение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иотическое загрязнений может привести и часто приводит к нарушению процессов самоочищения воды и почвы, вторгаясь в естественный круговорот вещест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2" descr="Live and let live - WPP - 2010"/>
          <p:cNvPicPr/>
          <p:nvPr/>
        </p:nvPicPr>
        <p:blipFill>
          <a:blip r:embed="rId1"/>
          <a:stretch/>
        </p:blipFill>
        <p:spPr>
          <a:xfrm>
            <a:off x="2362320" y="2527200"/>
            <a:ext cx="678312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икробное загрязнени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никает вследствие массового размножения микроорганизмов в антропогенных субстратах или в средах, измененных в ходе хозяйственной деятельности человека. В результате изменения субстратов ранее безвредные микроорганизмы могут приобретать патогенные свойства или                                                  способность подавлять                                                         другие микроорганизмы                                                       в сообщества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2" descr="32 современных технологических достижения, которые изменят наше будущее. Часть 3 - Курилка"/>
          <p:cNvPicPr/>
          <p:nvPr/>
        </p:nvPicPr>
        <p:blipFill>
          <a:blip r:embed="rId1"/>
          <a:stretch/>
        </p:blipFill>
        <p:spPr>
          <a:xfrm>
            <a:off x="5486400" y="3548160"/>
            <a:ext cx="36939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5e5ff"/>
                </a:solidFill>
                <a:latin typeface="Garamond"/>
              </a:rPr>
              <a:t>Классификация видов загрязнения окружающей среды (ОС)</a:t>
            </a:r>
            <a:br>
              <a:rPr sz="3500"/>
            </a:b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физико-химическим параметрам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механические, физические (энергетические), химические и биологические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воздействию на компоненты ОС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выбросы в атмосферу, твердые отходы и сточные воды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токсичност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токсичные и нетоксичные)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массе или концентра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образующихся загрязняющих веществ (малотоннажные и крупнотоннажные, концентрированные и разбавленные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реакционной способност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химически активные и инертные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5e5ff"/>
                </a:solidFill>
                <a:latin typeface="Garamond"/>
              </a:rPr>
              <a:t>Классификация загрязнений ОС по физико-химическим параметрам</a:t>
            </a:r>
            <a:br>
              <a:rPr sz="3500"/>
            </a:b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219320"/>
          <a:ext cx="8915400" cy="564660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400120"/>
                <a:gridCol w="2057400"/>
              </a:tblGrid>
              <a:tr h="3661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грязнения О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ханическ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имическ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изическ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энергетическое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иологическ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38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ылевые частицы в атмосфере; твердые частицы, различные предметы в воде и почв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азообразные, жидкие и твердые химические соединения и элементы, вступающие в реакцию с компонентами ОС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пло, шум, вибрации, ультразвук, видимые инфракрасные и УФ части спектра, электромагнитные поля, ионизирующие излуч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иды организмов, появившиеся при участие человека и наносящие вред ему самому и живой природ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изические загрязнен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это изменения тепловых, электрических, радиационных, световых полей в естественной среде, шумы, вибрации, гравитационные силы, вызванные человеко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3" name="Picture 2" descr="http://img-2003-12.photosight.ru/04/359962.jpg"/>
          <p:cNvPicPr/>
          <p:nvPr/>
        </p:nvPicPr>
        <p:blipFill>
          <a:blip r:embed="rId1"/>
          <a:stretch/>
        </p:blipFill>
        <p:spPr>
          <a:xfrm>
            <a:off x="3429000" y="2592360"/>
            <a:ext cx="571176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еханические загрязнен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35816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это разные твердые частицы и предметы (выброшенные как непригодные, сработанные, изъятые из потребления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6" name="Picture 2" descr="Выносить мусор опасно Культура и Наука E-News: новости Украины и Мира"/>
          <p:cNvPicPr/>
          <p:nvPr/>
        </p:nvPicPr>
        <p:blipFill>
          <a:blip r:embed="rId1"/>
          <a:stretch/>
        </p:blipFill>
        <p:spPr>
          <a:xfrm>
            <a:off x="3733920" y="1336680"/>
            <a:ext cx="54100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Химические загрязнен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тверди, газообразные и жидкие вещества, химические элементы и соединения искусственного происхождения, которые поступают, - в биосферу, в нарушение установлены природой процессы круговорота веществ и энерг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9" name="Picture 2" descr="Pollution Oilfield Mobile News"/>
          <p:cNvPicPr/>
          <p:nvPr/>
        </p:nvPicPr>
        <p:blipFill>
          <a:blip r:embed="rId1"/>
          <a:stretch/>
        </p:blipFill>
        <p:spPr>
          <a:xfrm>
            <a:off x="3255840" y="2890800"/>
            <a:ext cx="5877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иологические загрязнен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разные организмы, которые появились благодаря жизнедеятельности человечества, - бактериологическое оружие, новые вирусы (возбудители ВИЧ, болезни легионеров, эпидемий, других болезней, а также катастрофическое размножение                                        растений или животных,                                   переселенных из одной среды                                           в другое человеком                                                          или случайно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2" name="Picture 2" descr="Появился неуязвимый компьютерный вирус / Новости software / 3DNews - Daily Digital Digest"/>
          <p:cNvPicPr/>
          <p:nvPr/>
        </p:nvPicPr>
        <p:blipFill>
          <a:blip r:embed="rId1"/>
          <a:stretch/>
        </p:blipFill>
        <p:spPr>
          <a:xfrm>
            <a:off x="5257800" y="2938320"/>
            <a:ext cx="38862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а</cp:lastModifiedBy>
  <dcterms:modified xsi:type="dcterms:W3CDTF">2014-09-13T13:14:45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